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89D-FA57-4DB6-A7FC-2A759155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6F1-C84B-49FA-9E7C-CEABD8AE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D7F-DBD6-4036-B287-D8EFB7B5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B94-3BB8-4AD4-B4BD-4E9B3949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555-D440-4DC6-AC6D-5E5CCCF6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3F3-25E5-4D60-9047-152702E4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1C6-DDCF-4749-BF98-AD6A045D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CC7-FCBD-4B80-BE5C-CBC4616A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1F5-DFEA-4BDF-B1C3-9379D293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F2D-30F0-4775-AAAE-AC548359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160-E0A0-4995-90E2-E2BEC62C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261-6BA8-42C8-AD8D-68CFB388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7E67-5C41-40BC-BDC3-511301A91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’âge des arbres et des foss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 carbone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ree"/>
          <p:cNvSpPr/>
          <p:nvPr/>
        </p:nvSpPr>
        <p:spPr>
          <a:xfrm>
            <a:off x="3581280" y="45720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 carbone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Pour trouver l’âge d’un fossile ou d’un arbre, on utilise un procédé qui se nomme « </a:t>
            </a:r>
            <a:r>
              <a:rPr b="1" i="1" lang="fr-CA" sz="3200" spc="-1" strike="noStrike">
                <a:solidFill>
                  <a:srgbClr val="000000"/>
                </a:solidFill>
                <a:latin typeface="Comic Sans MS"/>
              </a:rPr>
              <a:t>la datation radioactive ».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  C’est en fait une substance qu’on retrouve dans l’organisme qui s’appelle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le carbone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.  Le carbone dégage des radiations.  Les experts la nomme donc «</a:t>
            </a:r>
            <a:r>
              <a:rPr b="1" i="1" lang="fr-CA" sz="3200" spc="-1" strike="noStrike">
                <a:solidFill>
                  <a:srgbClr val="000000"/>
                </a:solidFill>
                <a:latin typeface="Comic Sans MS"/>
              </a:rPr>
              <a:t> carbone 14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ree"/>
          <p:cNvSpPr/>
          <p:nvPr/>
        </p:nvSpPr>
        <p:spPr>
          <a:xfrm>
            <a:off x="1066680" y="457200"/>
            <a:ext cx="838440" cy="6858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20:31:13Z</dcterms:created>
  <dc:creator>nbdoe</dc:creator>
  <dc:description/>
  <dc:language>en-US</dc:language>
  <cp:lastModifiedBy>nbdoe</cp:lastModifiedBy>
  <dcterms:modified xsi:type="dcterms:W3CDTF">2008-11-27T19:54:46Z</dcterms:modified>
  <cp:revision>3</cp:revision>
  <dc:subject/>
  <dc:title>L’âge des arbres et des fossiles</dc:title>
</cp:coreProperties>
</file>